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1.gif" ContentType="image/gif"/>
  <Override PartName="/ppt/media/image10.jpeg" ContentType="image/jpeg"/>
  <Override PartName="/ppt/media/image16.pct" ContentType="image/x-pict"/>
  <Override PartName="/ppt/media/image7.pct" ContentType="image/x-pict"/>
  <Override PartName="/ppt/media/image6.pct" ContentType="image/x-pict"/>
  <Override PartName="/ppt/media/image5.pct" ContentType="image/x-pict"/>
  <Override PartName="/ppt/media/image2.jpeg" ContentType="image/jpeg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26.pct" ContentType="image/x-pict"/>
  <Override PartName="/ppt/media/image3.pct" ContentType="image/x-pict"/>
  <Override PartName="/ppt/media/image4.gif" ContentType="image/gif"/>
  <Override PartName="/ppt/media/image1.jpeg" ContentType="image/jpeg"/>
  <Override PartName="/ppt/media/image20.pct" ContentType="image/x-pict"/>
  <Override PartName="/ppt/media/image1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F84-DBCC-444E-A8D6-D43C6283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271-F8A4-4DBE-AB3E-32012C12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F52-2857-4622-B05E-41130ECF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847-563B-4F3D-93B5-88A59489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6DEF-1D04-4292-ADE6-66C17DC5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98C2-6AFD-42EC-AA06-DCE479C6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B0E5-2754-4179-9CE6-0ACC79BA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5C45-B936-4CD1-9304-DE6BD2D1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2A0C-45DC-4A65-B782-23740BBD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22AE-173D-4808-BB62-66EE3009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4CE9-D5EA-4FAC-BC60-F7632FF1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CC4-A4C0-4902-83CE-EA54B85D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8D5E-DF20-44B9-9347-A321B698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62A0-E98E-4A05-B787-B459BCBA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188D-D651-4F61-A1F8-D624322A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A29C-E4ED-4F4C-BAF4-22BEC0C2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880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4960" y="6094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880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4960" y="3754080"/>
            <a:ext cx="22816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85F0-4A14-4673-B13A-C290C179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4C9-860A-411D-9267-2DE73C36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00D-AE0D-4B85-8BFD-F0DC07A7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20C-1780-43D8-9DBC-507560A6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086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01A-E7CF-43F9-A818-279436A9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659-B9A6-470C-BC50-9B1C8A9B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3960" y="37540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45A-F6BC-4B48-976C-1B70A548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-16920"/>
            <a:ext cx="7086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960" y="609480"/>
            <a:ext cx="345816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3754080"/>
            <a:ext cx="7086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215-EE08-4321-9E45-F3B4DE5E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A021-7663-44CC-AB77-1BEB17B41D8B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0570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oink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3123-7426-455A-93B3-9273F7D2A0EF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image" Target="../media/image4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pct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pct"/><Relationship Id="rId1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image" Target="../media/image4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pct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pct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22.pct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ct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20570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oinks"/>
              </a:rPr>
              <a:t>Fraction Multiplication</a:t>
            </a:r>
            <a:endParaRPr b="0" lang="en-US" sz="66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3505320"/>
            <a:ext cx="4114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Fraction Multiplication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34671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ere are some fraction multiplication problem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n you tell how to multiply fraction from these examples?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888080" y="784080"/>
          <a:ext cx="1728720" cy="8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8080" y="784080"/>
                    <a:ext cx="17287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3733920" y="4657680"/>
          <a:ext cx="175248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657680"/>
                    <a:ext cx="17524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371600" y="2286000"/>
                <a:ext cx="21337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64000" y="3463920"/>
          <a:ext cx="2151360" cy="102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3463920"/>
                    <a:ext cx="21513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676520" y="3760920"/>
          <a:ext cx="1600200" cy="947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3760920"/>
                    <a:ext cx="16002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419720" y="2168640"/>
          <a:ext cx="1904760" cy="102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2168640"/>
                    <a:ext cx="19047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Multiplication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609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y numerator by numerato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d denominator by denominato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3720" y="1447920"/>
          <a:ext cx="274320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447920"/>
                    <a:ext cx="27432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905120" y="3352680"/>
          <a:ext cx="3733560" cy="13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352680"/>
                    <a:ext cx="373356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Try some.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y the following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4367160" y="3692520"/>
          <a:ext cx="137628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67160" y="3692520"/>
                    <a:ext cx="13762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535040" y="1639800"/>
          <a:ext cx="1501920" cy="11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5040" y="1639800"/>
                    <a:ext cx="1501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611360" y="3733920"/>
          <a:ext cx="1272960" cy="94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1360" y="3733920"/>
                    <a:ext cx="127296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064120" y="1600200"/>
          <a:ext cx="1376280" cy="102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64120" y="1600200"/>
                    <a:ext cx="13762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Answers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ply the following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4952880" y="3733920"/>
          <a:ext cx="197640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733920"/>
                    <a:ext cx="19764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200240" y="1639800"/>
          <a:ext cx="2173320" cy="114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0240" y="1639800"/>
                    <a:ext cx="21733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295280" y="3559320"/>
          <a:ext cx="198144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95280" y="3559320"/>
                    <a:ext cx="19814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572000" y="1600200"/>
          <a:ext cx="2209680" cy="114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1600200"/>
                    <a:ext cx="220968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Mixed Numbers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609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ecause of the order of operations,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ixed numbers cannot be multiplied as i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nge mixed numbers to improper fractions, then multiply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66880" y="1676520"/>
                <a:ext cx="1447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495288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905120" y="2819520"/>
          <a:ext cx="1371600" cy="83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819520"/>
                    <a:ext cx="13716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886200" y="2819520"/>
          <a:ext cx="205740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2819520"/>
                    <a:ext cx="20574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371600" y="4191120"/>
          <a:ext cx="3962520" cy="103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191120"/>
                    <a:ext cx="39625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Try some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609120"/>
            <a:ext cx="533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nge any whole or mixed numbers to improper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y straight across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mplify answer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523880" y="3048120"/>
          <a:ext cx="1216080" cy="83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048120"/>
                    <a:ext cx="1216080" cy="83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181480" y="3048120"/>
          <a:ext cx="102888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3048120"/>
                    <a:ext cx="10288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Joinks"/>
              </a:rPr>
              <a:t>Answers</a:t>
            </a:r>
            <a:endParaRPr b="0" lang="en-US" sz="3600" spc="-1" strike="noStrike">
              <a:solidFill>
                <a:srgbClr val="800080"/>
              </a:solidFill>
              <a:latin typeface="Joink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609120"/>
            <a:ext cx="5334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nge any whole or mixed numbers to improper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ultiply straight across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mplify answer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43000" y="4419720"/>
            <a:ext cx="144936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1828800" y="2209680"/>
          <a:ext cx="361944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209680"/>
                    <a:ext cx="36194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8800" y="3886200"/>
          <a:ext cx="314316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3886200"/>
                    <a:ext cx="31431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9:30:12Z</dcterms:created>
  <dc:creator>EITC </dc:creator>
  <dc:description/>
  <dc:language>en-US</dc:language>
  <cp:lastModifiedBy>Parkland High School</cp:lastModifiedBy>
  <dcterms:modified xsi:type="dcterms:W3CDTF">2010-11-17T16:58:19Z</dcterms:modified>
  <cp:revision>14</cp:revision>
  <dc:subject/>
  <dc:title>Silly Monster</dc:title>
</cp:coreProperties>
</file>